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31D-A74C-4585-8504-C25AC772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776-77AF-456E-BED6-327A966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E30-2608-4B11-B1B2-418B235C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10B-2561-4FAC-9700-19EB201A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D3A-E3CD-439A-865F-51F828FD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4A2-66C2-40AB-A8D3-27E836D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2C1D-6DC4-47E0-999C-43F3E94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02D2-7F2B-41CD-A3A7-E117A2CF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D1D-5D54-484C-98D3-E2778FA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EC3-6FD1-4A6B-AB65-4EB3335B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186B-3224-4ED1-A90D-B3D0A49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B94-C5FB-4437-B51D-41ACAC2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CCA-3396-48E4-846D-36389C80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FEB-0337-48A1-B847-5CE50BF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2DF-2E3E-4C01-A1AF-E318CDF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C8E-7D0D-494E-B47F-D3429623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B1FA-5298-4893-8E54-88F671A8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16B-B33A-4AB7-937D-8EC4C58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255-FF6D-479D-B5DA-68E7B79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EA1-DAAF-41F5-9310-CF4D641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904-8847-4064-A2DF-045379D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352-4493-4052-81F0-9CF79DE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60D-C371-4B3A-B1EE-76D54EB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56B-18C3-4A09-813A-FA985B9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4DD-0BEE-44C9-96BE-B6B312F56F6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9D46-5780-437F-BFD8-32081F2FAD3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Зрелая лирика в творчестве Анны Андреевны Ахматовой (1889-1966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3581280"/>
            <a:ext cx="739152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тудентка филологического факультета 341 группа Савина М.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ыктывкар 2010 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184284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пецифика зрелой лирики Ахмат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Знакомство Ахматовой с Блок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Замыслы Ахмат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Основные темы в творчеств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Новые жанры в зрелой лири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7057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ецифика зрелой лирики Ахматово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пецифика зрелой лирики Ахматовой заключается в том, что у нее появляется аналитизм, философичность в осмыслении тем в произведениях. Так,  как она,  может чувствовать только человек исторический. Ее стихотворения становятся переживаниями истории, и это переживание является сферой личной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релый этап творчества- трагичен. Это период ее творческого молчания, но она занималась переводами. Ахматова пытается осмыслить эпоху, весомость време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3313080" cy="39625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67057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467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Знакомство Ахматовой с Блоком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 А.Блоком Ахматова знакомится в поезде летом 1914 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х общей темой в творчестве стала тема трагической судьбы "поколения" и суда над ним с точки зрения истории (поэма Блока "Возмездие" (1910-1921) и "триптих" Ахматовой "Поэма без героя", точнее - его первая часть "Девятьсот тринадцатый год. Петербургская повесть».Также звучит тема, проходящая через все восприятие исторического прошлого в поэмах Блока, Ахматова в то же время производит суд и произносит приговор над собою и своими современниками. Ее не покидает сознание роковой обреченности окружающего ее мира, ощущение близости социальной катастрофы, трагической "расплаты" ("Все равно подходит расплата") - в смысле блоковского "возмездия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3530880" cy="263052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66294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мыслы Ахматово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мыслы Ахматовой в зрелом творчестве заключаются в освобождении сына из тюрьмы, в продолжении ранней лирики, в осмыслении опыта поколений. Появляется стремление к гражданскому стиху. 40-60 годы оставили огромный шрам на ее душе: Ахматова жила в ужасное время и вела себя, по словам Надежды Мандельштам, героически. Все имеющиеся свидетельства говорят об этом. Ни публично, ни частным образом она ни разу не высказалась против советского режима; однако вся ее жизнь может служить примером того, что Герцен сказал однажды почти обо всей русской литературе, - одним непрерывным обвинительным актом русской действительности... Ее жизнь стала легендой. Ее несгибаемое пассивное сопротивление тому, что она считала недостойным себя и страны (как в свое время предсказал Белинский по поводу Герцена), создало ей место не только в русской литературе, но и в русской истории нашего 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010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Основные темы в творчестве Ахматовой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ез сомнения, центральной темой творчества Анны Ахматовой является Любов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ирическая героиня Ахматовой не олицетворяет собой какой-то безупречно-определенный человеческий образ с соответствующими ему чертами характера. Она и любима, и отвергнута, кого-то возносит на алтарь, а кого-то без сожаления покидает. Она холодна и неприступна, но если приглядеться, то легко заметить тайное томление в глазах бездонной глубины, манящих захлебнуться солеными волнами безудержной страст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юбовь к Родине занимает особенное место в творчестве А. А. Ахматовой. Уже повзрослевшая вместе с поэтом лирическая героиня, сознавая происходящее вокруг, весь ужас и неизбежность Апокалипсиса, делает вполне осознанный выбор:Ахматова остается со своим народом. Свои нежные чувства к любимым местам страны она безраздельно связывает с ее историей. В годы беспощадных сталинских репрессий, когда судьба нанесла Ахматовой два тяжелейших удара — расстрел мужа Николая Гумилёва и арест единственного сына, — она создает свой шедевр — “Реквием”. Посвящение всем жертвам кровавого террора, обвинение и обличение власти, повествование о страданиях невинных людей — все нашло отражение в этом произведени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овые жанры в зрелой лирик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904760"/>
            <a:ext cx="7386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араллельно новым темам в ее лирике появляются и новые жан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лег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ражданский сти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эм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Циклы памя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10-05-05T12:29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